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5E5-D349-49FE-B5D6-6304CB3A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5D1-267E-4085-89F6-A2C745D9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B47-9BB5-4171-A2B7-BFAFF70B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215-8434-4AFA-9F07-755BA42B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CE3-CD2F-49F6-94EB-106392E5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4E0-42B6-414F-BAE1-F154B54C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5A8-FB97-4175-A900-B7E6EF83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7CC-F8DF-4F4B-9F11-42792E63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607-8B8B-49BE-B962-3323765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9D6-0A9E-4F12-AA85-A6EC5904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2B9-D497-4AF5-BEFA-A29507F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42D-F89E-4E08-806E-75138EC4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C5A2-7CEA-4FB6-B994-1DAC1CB5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 into Slope Inter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724280" y="1676520"/>
          <a:ext cx="25909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2590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838080" y="19051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 = slop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9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forget to put the y’s on top and the x’s on the bot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for writing an equation in slope int. from two poi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point slope form using the first of the two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the slope through the pare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y by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-1,1) and (3,5) write an equation in slope intercep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 in point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1=1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steps to change into slope 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s (4,-5) and (8,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-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point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+ 5 = -3/4(x –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steps to change into slope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3/4x –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s (-1,-4) and (2,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point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+ 4 = 4(x +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steps to change into slope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22:21Z</dcterms:created>
  <dc:creator>Preferred Customer</dc:creator>
  <dc:description/>
  <dc:language>en-US</dc:language>
  <cp:lastModifiedBy>Preferred Customer</cp:lastModifiedBy>
  <dcterms:modified xsi:type="dcterms:W3CDTF">2007-12-12T19:49:41Z</dcterms:modified>
  <cp:revision>3</cp:revision>
  <dc:subject/>
  <dc:title>Change into Slope Intercept</dc:title>
</cp:coreProperties>
</file>